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BB7-585C-4730-946E-ED519C2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B2D-B0AB-4DD1-9BCF-34AA44F0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CE5-0C86-4C84-9879-A4C688F0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0FD-996D-4500-9CAF-BC3A01C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C74-D7B8-4C91-BBD9-A616E005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6596-41CE-4E80-AC4C-AEB8B7F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BCEF-AA49-4B29-86B8-56AF29C5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F4A-38D1-4648-AC7E-0543D83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42A6-27B4-4733-A00D-BABC47DF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02F-CD73-4EB8-8848-E4B68D2E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AD2-6F7A-4903-895A-F8A533FC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BF6-2898-4D2D-BD9E-263CDE69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DF9B-55F7-4FBF-B3B4-64825106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A9C-77E3-470B-B3CD-173E20A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09E8-2C21-4DAE-8197-5875E2E7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D68-F96B-4A22-B4B7-8B7DCC99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6983-B4A6-42D4-BA51-6D5F864D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ADF-4FE1-427D-9BAC-6C50C33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D4F-1620-4D2E-AC43-95903AE2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A5D-9221-4D07-A2C8-32660B1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794-D16C-4903-9AA7-136607E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BDD-2177-457F-AFC2-536C9B5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7E1-5FB5-484E-8DF5-430043F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C05-E381-47DF-9618-7BCCAC9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966-6D10-4A99-9AA3-2223089C5C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6D4-6FF8-40B9-A282-A1ED52DCF8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-Filled Day 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DOL/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 the grapes of wrath is considered among the better of Steinbecks many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steps are necessary to replace a damaged internal modem first eject the modem second deinstall the software then replace the broken one with a new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s:scale::____: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:novel, months:season, pennies: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-correct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rapes of Wr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considered among the best of Steinbeck’s many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steps necessary to replace a damaged internal modem: first, eject the modem; second, de-install the software; then replace the broken modem with a new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-Due Sept. 2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following for your AR requirements: Each student must create a large "portrait" of one of the characters from the book just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rait doesn't have to be a picture, it could be a collage of things important to the character, or it could include you dressing like your character. Be cre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rait should include a one page written piece that tells about the character. The written piece might include information about events, traits, or conflicts in the book that involve that charac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also include at least 5 quotes that show significant things about your character. See me if you need poster bo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creative, have fun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ativity assig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three-sentence paragraph using only the first half of the alphabet, letters A-L. (You may not use t, m, s, or any other letter that appears past L. This is where the challenge comes in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prepared to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liked a lake. He did feel a gale. He hiked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same thing, but only use the last  letters of the alphabet. M-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3:45:12Z</dcterms:created>
  <dc:creator>Angie</dc:creator>
  <dc:description/>
  <dc:language>en-US</dc:language>
  <cp:lastModifiedBy>Ms. McCall</cp:lastModifiedBy>
  <dcterms:modified xsi:type="dcterms:W3CDTF">2012-08-21T02:44:19Z</dcterms:modified>
  <cp:revision>8</cp:revision>
  <dc:subject/>
  <dc:title>English</dc:title>
</cp:coreProperties>
</file>